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A54-1046-4CD2-8911-D0F53E07B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455A-0A18-4280-97D3-50EE6C4F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AA5F-514B-4A0F-8680-DE25C24C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1BD37-4106-48D9-AA2A-364DDF6B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9F2-89E3-456C-8BD6-D525BFC83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38FB-4E9B-4E4C-AD47-525A5C23F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FB35-98E4-48D1-8539-A8649B438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84EDB-DA38-4292-B66C-4E5E4D1D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669-CB4C-441E-A6EC-3216A700D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80CC8-08C8-4A23-B326-D67EF02CF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B1AD-E507-4619-9B80-ECF11383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426A-7D4E-4434-94A0-8F6BA087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AD47-6598-4C51-A6B0-80F580B3DE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5520" y="2743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 Up: Sept. 23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Act is this political cartoon referen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 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Cart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re to draw a political cartoon representing one of the British Acts we studied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toon must sh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Describe the ACT (This can be a pi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Why the colonists were up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What the colonists planned to do abou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04:41Z</dcterms:created>
  <dc:creator>fcps</dc:creator>
  <dc:description/>
  <dc:language>en-US</dc:language>
  <cp:lastModifiedBy>FCPS</cp:lastModifiedBy>
  <dcterms:modified xsi:type="dcterms:W3CDTF">2010-09-23T17:49:29Z</dcterms:modified>
  <cp:revision>4</cp:revision>
  <dc:subject/>
  <dc:title>Warm Up: Sept 23, 2010</dc:title>
</cp:coreProperties>
</file>