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C408-E337-40E0-9C81-97B0A8168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A419-4B21-4C77-9845-EDB4C241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0F5C-2652-447A-B28E-DF148B3F6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CFF9-BFC9-42F4-8D54-ED173C93F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A6DF-6351-48DE-BA39-428B0C06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08BE-0B91-4D28-83C6-BBEDFDDF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0649-6E3F-42C9-88D0-3CFF5749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11F8-13FE-498E-9C9E-011619C7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7AC3-F6D7-4557-84E9-7EA8F0A0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B8EC-CB4F-49B0-83F5-2D66992C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0A48-93B1-4289-9FD5-E4DF6134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17C5-8793-471A-8367-1C1B9472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DCE9-FB23-4B77-B5E6-BF07D4928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05520" y="27432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m Up: Sept. 23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ich Act is this political cartoon referenc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do you know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 specifi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59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Cart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are to draw a political cartoon representing one of the British Acts we studied in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rtoon must sh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) Describe the ACT (This can be a pict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) Why the colonists were ups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) What the colonists planned to do about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REAT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9:04:41Z</dcterms:created>
  <dc:creator>fcps</dc:creator>
  <dc:description/>
  <dc:language>en-US</dc:language>
  <cp:lastModifiedBy>FCPS</cp:lastModifiedBy>
  <dcterms:modified xsi:type="dcterms:W3CDTF">2010-09-23T17:49:29Z</dcterms:modified>
  <cp:revision>4</cp:revision>
  <dc:subject/>
  <dc:title>Warm Up: Sept 23, 2010</dc:title>
</cp:coreProperties>
</file>