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1819-C5FB-4161-8BCC-2EF696477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8718-8B4E-49AB-AD1D-1CD62085E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3332-1C2F-4ED7-B162-1B20485AD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B49-6F8D-4B63-8E4D-EA0E0AF7B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184C-B818-4CD1-92E3-734F1A1ED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8EDA-3193-4B04-B23A-6FE8CEA65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05EE-5280-421E-808E-760697C6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4A48-B3C7-4C79-B015-321CA6A8D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D3F2-EE60-4229-A7E5-D6B10BBF3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6A30-632F-43CA-AA00-C8C6A770C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841A-BE7E-4635-A1B7-A7E8DC72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DF96-767A-41FF-9105-59BE1B9FD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3E6F7-5E1D-432F-8C3C-B4C863607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05520" y="274320"/>
            <a:ext cx="358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rm Up: Sept. 23, 20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ich Act is this political cartoon referencin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ow do you know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e specific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159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ical Carto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are to draw a political cartoon representing one of the British Acts we studied in cl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artoon must show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) Describe the ACT (This can be a pi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) Why the colonists were ups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) What the colonists planned to do about i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 CREAT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2T19:04:41Z</dcterms:created>
  <dc:creator>fcps</dc:creator>
  <dc:description/>
  <dc:language>en-US</dc:language>
  <cp:lastModifiedBy>FCPS</cp:lastModifiedBy>
  <dcterms:modified xsi:type="dcterms:W3CDTF">2010-09-23T17:49:29Z</dcterms:modified>
  <cp:revision>4</cp:revision>
  <dc:subject/>
  <dc:title>Warm Up: Sept 23, 2010</dc:title>
</cp:coreProperties>
</file>