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E54-535D-4B1B-BB84-EC78F738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1B8-2C7B-42D8-BBDB-5F1A8E3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F6A-5D4C-4DFA-A2B8-1865C648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B3F-556A-4BFF-B237-9507FDBE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FEE-C8D9-4D1A-91EC-B69D61AD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1CF-BF5C-487B-916A-3EC80DF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934-FBDB-4259-A110-3A05D7F7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01E-13D0-4DE0-AFC2-F10DCE89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629-1F2D-4C3F-83A2-5F3E03C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A69-A983-4C82-A2C2-773D7DF5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AA8-3634-4ACA-84C3-F0ADE6C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FF2-61CF-4A06-A408-1A1EC77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A65-0BAC-47CE-9DC7-D12287B81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52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Up: Sept. 2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Act is this political cartoon refere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re to draw a political cartoon representing one of the British Acts we studied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toon must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escribe the ACT (This can be a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Why the colonists were up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What the colonists planned to do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04:41Z</dcterms:created>
  <dc:creator>fcps</dc:creator>
  <dc:description/>
  <dc:language>en-US</dc:language>
  <cp:lastModifiedBy>FCPS</cp:lastModifiedBy>
  <dcterms:modified xsi:type="dcterms:W3CDTF">2010-09-23T17:49:29Z</dcterms:modified>
  <cp:revision>4</cp:revision>
  <dc:subject/>
  <dc:title>Warm Up: Sept 23, 2010</dc:title>
</cp:coreProperties>
</file>